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2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45EAB-81AB-4B2D-A211-B540D82B4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11BB9-A5F8-4BF5-87B2-19DA8724D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616286-87A7-4021-8779-B69BDE7F04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CD626B-50A8-4337-9704-8F7B584EEC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4A3D72-245B-4777-A3DA-1C1C1D1BD0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E846F1-E325-4F84-9BC3-4630A816CC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40BA2B-261F-447B-A2D2-BEC6D73E3F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AF21D6-ACB7-4638-8F31-FD05B13616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58765B-95C9-4D2B-A687-E872A74C7E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2FFC73-CEBC-4F41-BE6E-2A2C04388B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92695A-FC92-4F08-969C-AEFEC4F26D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690E4-5154-4855-8071-69858A373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B171D-571B-44D7-9981-E09C1D841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CC9101-DD85-41E1-BD4C-F67984EC8B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862AA-186D-40BF-8ED0-2BAEDC4F2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93480-B34F-450F-8D65-629B1F3BC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3E80A-DA55-4409-930B-5C7585974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94C75-E4B9-4073-835D-72D6A202E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3B8FB-986C-40DE-A41F-EF707B3FD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A3AF8-EB6C-4C4F-A829-4B613721B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C04A7-BAF4-4089-8131-7A0E1D92D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5B111-E3EB-4C83-BD62-3B44FDD1B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70808-A0C0-4ECC-92C9-A8EA73AE7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CE4E8-D840-4D0D-BD58-76565736C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B817E-B8D3-4C8F-8FBB-B063EA208D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C3566-CF65-4DEE-8939-ECC017E83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F24B26-7B1E-4AE7-B8D8-E1F368E10C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A99349-453E-4DD0-8F88-EBD419E43F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23C0FE-E4CD-47B0-BB47-C7C4196D3B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AD56E2-FA56-44F2-AC31-F25356ED4D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6F4137-0768-4E53-8A00-A8B54F0322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E4992-5E52-4673-AA36-329A8642B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79D782-71B0-4101-8328-79F35F68C8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54D941-C249-4FFA-9C3F-2766BE1063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D68504-13E7-40B7-B446-0BCEC3C435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EB83F9-C76A-4A1C-98B6-C5217BE31A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5CF3BA-4CA0-49D7-8F8A-114687818A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85525C-BF2D-4493-8D9A-829C4D9305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33BD02-4959-484B-8907-84731023B7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BFF368-74F3-4355-B890-4921140C86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18B622-8AB5-44B2-B9CC-752967B693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0F5315-79D7-4CDB-85C3-54FE9E82B3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411D0-A1DE-429A-8B95-C7AA498B2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B0B7DF-67C9-48E1-A796-19F205A234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114870-F689-456E-9AEF-C17BF2D4F6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2D08E6-9EFA-4B66-BFA9-F63927BD40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9F6962-A94B-46B0-BD14-CFEB556813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2E232D-21F4-41BC-99EF-67271BECFF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94480C-D208-4ED3-AD65-E3441C8FBC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A4863A-E71E-4A8A-9D8F-A18FDAD8D2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B07979-1C44-4CE9-94D7-329D6E718F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D773A3-D7B4-41F5-B5B4-FFDF42A3EC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1C532A-8872-4236-9BF1-8D11053A77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162A3-F5E1-46F2-B7D1-EBB42566E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B459E7-6E45-48B2-8AAA-219F696225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C2E565-4720-43AD-BE6B-DAB029981E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FAABB7-F44A-4FCA-A0DB-9C2296D6F3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FA7875-FF9D-4D24-B2CD-C12EF535EC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67C4D6-68AD-4C7D-8C61-12047FBC7E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61578A-30A7-4367-8F33-13C6B65D76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D508A3-1B03-41D4-8417-833C58C9F5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F17AAF-3521-4B72-A9A1-3179CB5666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668DE6-76AC-4BD1-A215-9B2E14696B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9D54D8-4AF4-4D62-BC81-472B36DD91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21752-70D7-4B1E-89CF-5AEDD9340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E7660C-101B-4D56-911A-15925FDE75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5B3F11-4BF7-40EA-B5D6-1E1EE1C72D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72F40E-5C7B-4C72-9C15-3E3B8375CB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05ED14-4985-42F9-9EF5-281EEA4921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DA7CB6-30D8-470F-9BDD-74784839DE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2EADC3-FBA7-4240-85B3-63227C7D6E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8F3F36-1B0F-4DDD-AE38-C0851BD7A5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DB6A69-137F-4B61-AADF-7402D1DE36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4F29CA-15AE-4F16-8701-907C2E4C2E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F82D28-2D56-4522-AC90-73A7ACBE5C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F5151-A2B2-400F-91FC-085D3BFAE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3106A3-7EFF-4025-9953-039AADFC94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0B1417-083C-47DF-AAE9-F240AEA338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62DD53-3212-456E-80A9-BE32051571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2C2E13-9417-432F-B63C-9AF216438F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2201EB-B1D7-4F43-84C3-72C108EDD1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30FA73-3EBF-4D93-8F91-E4091CAD8D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5B4500-9C26-45EC-8A23-CEE3DFA822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84156B-0029-4936-B589-8231D23245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C3F31E-E2E0-4E89-9EF5-EEBBA41477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064AF2-5246-4BA8-A633-958E4B8BAB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A758B-9F61-4DAA-86CB-010710F6A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9DE292-CB19-496C-8B54-97E9A86148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AB7658-A5F6-43F9-8929-71CDA4E5DC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608820-DECB-45A8-8D1D-3F4C7659D8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1806B4-3F3F-4297-BA30-07B3D8DB83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2AD3C0-CB58-4F63-B27F-91DEEB4098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6F9C2D-A182-4BC6-9066-83477965A6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A2091C-AA2A-4F88-B428-F9D2C58CC4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AE2623-706F-4AB6-8F7D-0E296BEB27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45B67F-27E7-46AD-918D-8FBCB8166C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F9C9D2-643E-4C9A-9734-27A79CF900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C2D65-5052-4FF9-B04B-5253EA5D4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3D3CFB-1DCF-4483-A999-C2E3FEE186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A32ED0-0720-442C-8883-A55BD81866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DA6DD1-1DA4-473F-8673-5E3188B110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791A63-5B85-42C7-A1CD-8F771BBB7C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2A15C2-3517-4006-94EF-CF1CCD422B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12C0A4-0A4E-48FC-A5A6-76E584120C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7E0E56-F91F-472E-8D91-38C87AEF1B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F80EA4-3A44-4509-817E-8DC6587569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4C7A41-4B60-4C43-9364-FC978167F2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DB4CD7-9E56-4245-A619-66444363DB0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B22DB-4B50-4108-B1E3-FBC89ED14AC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DEB8-5280-423D-9772-5DEE00557BE5}"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7AAC-CED6-447D-B7F9-A400A394F688}"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3FB2-E1F6-45D3-AD5C-5BD8900F4317}"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4AB8-4779-4592-9002-F8587ACBAD1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7D8A-E3B3-45E0-84D3-49D7816FD59B}"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BDD4C-6701-480B-8B18-0D34489E177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2EC4-B805-4E37-B588-C283C03BC963}"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CCFEC-76D0-4064-A7EC-A864F6984E8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871720"/>
            <a:ext cx="8186760" cy="178596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Title 1" descr=""/>
          <p:cNvPicPr/>
          <p:nvPr/>
        </p:nvPicPr>
        <p:blipFill>
          <a:blip r:embed="rId1"/>
          <a:stretch/>
        </p:blipFill>
        <p:spPr>
          <a:xfrm>
            <a:off x="201600" y="274680"/>
            <a:ext cx="8485200" cy="1243080"/>
          </a:xfrm>
          <a:prstGeom prst="rect">
            <a:avLst/>
          </a:prstGeom>
          <a:ln w="0">
            <a:noFill/>
          </a:ln>
        </p:spPr>
      </p:pic>
      <p:sp>
        <p:nvSpPr>
          <p:cNvPr id="484" name=""/>
          <p:cNvSpPr txBox="1"/>
          <p:nvPr/>
        </p:nvSpPr>
        <p:spPr>
          <a:xfrm>
            <a:off x="457200" y="1599840"/>
            <a:ext cx="8229600" cy="485316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the experimental procedures / assessments were carried out, and by who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s, lab assays, equipment</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ntrols, treatments,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variable(s) were measur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s were collect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plication,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quality control an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aining,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final form of the data </a:t>
            </a:r>
            <a:endParaRPr b="0" lang="en-US" sz="23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f well known only reference</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Otherwise – more detail (and reference)</a:t>
            </a:r>
            <a:endParaRPr b="0" lang="en-US" sz="20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201600" y="274680"/>
            <a:ext cx="8485200" cy="1243080"/>
          </a:xfrm>
          <a:prstGeom prst="rect">
            <a:avLst/>
          </a:prstGeom>
          <a:ln w="0">
            <a:noFill/>
          </a:ln>
        </p:spPr>
      </p:pic>
      <p:sp>
        <p:nvSpPr>
          <p:cNvPr id="4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ably more in the passive voice than other sec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oncise as wel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Use 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bine sub-sections if appropriate (e.g. experimental design and methods)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 example ….</a:t>
            </a:r>
            <a:endParaRPr b="0" lang="en-US" sz="2700" spc="-1" strike="noStrike">
              <a:solidFill>
                <a:srgbClr val="000000"/>
              </a:solidFill>
              <a:latin typeface="Lucida Sans Unicode"/>
            </a:endParaRPr>
          </a:p>
        </p:txBody>
      </p:sp>
      <p:pic>
        <p:nvPicPr>
          <p:cNvPr id="488"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1219320" y="-14760"/>
            <a:ext cx="6781680" cy="4620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400" spc="-1" strike="noStrike">
                <a:solidFill>
                  <a:srgbClr val="000000"/>
                </a:solidFill>
                <a:latin typeface="Arial"/>
              </a:rPr>
              <a:t>Influence of Social Factors on Avoidable Mortality: A Hospital-Based Case-Control Stud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000000"/>
                </a:solidFill>
                <a:latin typeface="Arial"/>
              </a:rPr>
              <a:t>  “ </a:t>
            </a:r>
            <a:r>
              <a:rPr b="0" lang="en-US" sz="2000" spc="-1" strike="noStrike">
                <a:solidFill>
                  <a:srgbClr val="000000"/>
                </a:solidFill>
                <a:latin typeface="Arial"/>
              </a:rPr>
              <a:t>. . . 124 patients died of some type of avoidable mortality cause . . . .  </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 Public Health Reports.  Jan-Feb 2005: 55-6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3"/>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 . . 124 patients died of an avoidable cause . . . . Of the 124 eligible cases, 42 were excluded from the analysis. . .</a:t>
            </a:r>
            <a:endParaRPr b="0" lang="en-US" sz="2000" spc="-1" strike="noStrike">
              <a:solidFill>
                <a:srgbClr val="000000"/>
              </a:solidFill>
              <a:latin typeface="Arial"/>
            </a:endParaRPr>
          </a:p>
        </p:txBody>
      </p:sp>
      <p:sp>
        <p:nvSpPr>
          <p:cNvPr id="491" name="Rectangle 6"/>
          <p:cNvSpPr/>
          <p:nvPr/>
        </p:nvSpPr>
        <p:spPr>
          <a:xfrm>
            <a:off x="762120" y="297180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Is the term </a:t>
            </a:r>
            <a:r>
              <a:rPr b="0" lang="en-US" sz="2400" spc="-1" strike="noStrike">
                <a:solidFill>
                  <a:srgbClr val="ff0000"/>
                </a:solidFill>
                <a:latin typeface="Arial"/>
              </a:rPr>
              <a:t>“patient who died of an avoidable cause”</a:t>
            </a:r>
            <a:r>
              <a:rPr b="0" lang="en-US" sz="2400" spc="-1" strike="noStrike">
                <a:solidFill>
                  <a:srgbClr val="ffff00"/>
                </a:solidFill>
                <a:latin typeface="Arial"/>
              </a:rPr>
              <a:t> </a:t>
            </a:r>
            <a:r>
              <a:rPr b="0" lang="en-US" sz="2400" spc="-1" strike="noStrike">
                <a:solidFill>
                  <a:srgbClr val="376092"/>
                </a:solidFill>
                <a:latin typeface="Arial"/>
              </a:rPr>
              <a:t>interchangeable with </a:t>
            </a:r>
            <a:r>
              <a:rPr b="0" lang="en-US" sz="2400" spc="-1" strike="noStrike">
                <a:solidFill>
                  <a:srgbClr val="ff0000"/>
                </a:solidFill>
                <a:latin typeface="Arial"/>
              </a:rPr>
              <a:t>“eligible case”?</a:t>
            </a:r>
            <a:endParaRPr b="0" lang="en-US" sz="2400" spc="-1" strike="noStrike">
              <a:solidFill>
                <a:srgbClr val="000000"/>
              </a:solidFill>
              <a:latin typeface="Arial"/>
            </a:endParaRPr>
          </a:p>
        </p:txBody>
      </p:sp>
      <p:sp>
        <p:nvSpPr>
          <p:cNvPr id="492" name="Text Box 7"/>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8"/>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icture 11"/>
          <p:cNvSpPr/>
          <p:nvPr/>
        </p:nvSpPr>
        <p:spPr>
          <a:xfrm>
            <a:off x="5981760" y="2362320"/>
            <a:ext cx="1942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12"/>
          <p:cNvSpPr/>
          <p:nvPr/>
        </p:nvSpPr>
        <p:spPr>
          <a:xfrm>
            <a:off x="7620120" y="1371600"/>
            <a:ext cx="914400" cy="609480"/>
          </a:xfrm>
          <a:prstGeom prst="cloudCallout">
            <a:avLst>
              <a:gd name="adj1" fmla="val -43750"/>
              <a:gd name="adj2" fmla="val 107550"/>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49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9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376092"/>
                </a:solidFill>
                <a:latin typeface="Arial"/>
                <a:ea typeface="Arial"/>
              </a:rPr>
              <a:t>“</a:t>
            </a:r>
            <a:r>
              <a:rPr b="1" lang="en-US" sz="2000" spc="-1" strike="noStrike">
                <a:solidFill>
                  <a:srgbClr val="376092"/>
                </a:solidFill>
                <a:latin typeface="Arial"/>
                <a:ea typeface="Arial"/>
              </a:rPr>
              <a:t>. . . . 124 patients died of an avoidable cause . . . . Of the 124 eligible cases, 42 were excluded from the analysis. </a:t>
            </a:r>
            <a:r>
              <a:rPr b="1" lang="en-US" sz="2000" spc="-1" strike="noStrike">
                <a:solidFill>
                  <a:srgbClr val="ffffff"/>
                </a:solidFill>
                <a:latin typeface="Arial"/>
                <a:ea typeface="Arial"/>
              </a:rPr>
              <a:t>. .</a:t>
            </a:r>
            <a:endParaRPr b="0" lang="en-US" sz="2000" spc="-1" strike="noStrike">
              <a:solidFill>
                <a:srgbClr val="000000"/>
              </a:solidFill>
              <a:latin typeface="Arial"/>
            </a:endParaRPr>
          </a:p>
        </p:txBody>
      </p:sp>
      <p:sp>
        <p:nvSpPr>
          <p:cNvPr id="497" name="Text Box 5"/>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Ink 8" descr=""/>
          <p:cNvPicPr/>
          <p:nvPr/>
        </p:nvPicPr>
        <p:blipFill>
          <a:blip r:embed="rId1"/>
          <a:stretch/>
        </p:blipFill>
        <p:spPr>
          <a:xfrm>
            <a:off x="7078680" y="649440"/>
            <a:ext cx="749160" cy="90360"/>
          </a:xfrm>
          <a:prstGeom prst="rect">
            <a:avLst/>
          </a:prstGeom>
          <a:ln w="0">
            <a:noFill/>
          </a:ln>
        </p:spPr>
      </p:pic>
      <p:pic>
        <p:nvPicPr>
          <p:cNvPr id="500" name="Ink 9" descr=""/>
          <p:cNvPicPr/>
          <p:nvPr/>
        </p:nvPicPr>
        <p:blipFill>
          <a:blip r:embed="rId2"/>
          <a:stretch/>
        </p:blipFill>
        <p:spPr>
          <a:xfrm>
            <a:off x="911160" y="990720"/>
            <a:ext cx="2249640" cy="1299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533520" y="504000"/>
            <a:ext cx="731520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 </a:t>
            </a:r>
            <a:r>
              <a:rPr b="0" lang="en-US" sz="2000" spc="-1" strike="noStrike">
                <a:solidFill>
                  <a:srgbClr val="376092"/>
                </a:solidFill>
                <a:latin typeface="Arial"/>
              </a:rPr>
              <a:t>. . .  124 patients died of an avoidable cause.  Forty-two of them were excluded from the analysis, </a:t>
            </a:r>
            <a:r>
              <a:rPr b="0" lang="en-US" sz="2000" spc="-1" strike="noStrike">
                <a:solidFill>
                  <a:srgbClr val="ff9900"/>
                </a:solidFill>
                <a:latin typeface="Arial"/>
              </a:rPr>
              <a:t>including seven whose relatives declined, 11 who had no known telephone or address, and 24 who did not answer after five calls.  The remaining 82 cases were included and interviewed</a:t>
            </a:r>
            <a:r>
              <a:rPr b="0" lang="en-US" sz="20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02"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ubOvalCallout"/>
          <p:cNvSpPr/>
          <p:nvPr/>
        </p:nvSpPr>
        <p:spPr>
          <a:xfrm>
            <a:off x="5715000" y="2819520"/>
            <a:ext cx="1905120" cy="76176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h???</a:t>
            </a:r>
            <a:endParaRPr b="0" lang="en-US" sz="2400" spc="-1" strike="noStrike">
              <a:solidFill>
                <a:srgbClr val="000000"/>
              </a:solidFill>
              <a:latin typeface="Arial"/>
            </a:endParaRPr>
          </a:p>
        </p:txBody>
      </p:sp>
      <p:sp>
        <p:nvSpPr>
          <p:cNvPr id="504" name="Text Box 5"/>
          <p:cNvSpPr/>
          <p:nvPr/>
        </p:nvSpPr>
        <p:spPr>
          <a:xfrm>
            <a:off x="457200" y="3505320"/>
            <a:ext cx="48006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bear of little brain has to read this twice (at leas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How about you?</a:t>
            </a:r>
            <a:endParaRPr b="0" lang="en-US" sz="2800" spc="-1" strike="noStrike">
              <a:solidFill>
                <a:srgbClr val="000000"/>
              </a:solidFill>
              <a:latin typeface="Arial"/>
            </a:endParaRPr>
          </a:p>
        </p:txBody>
      </p:sp>
      <p:sp>
        <p:nvSpPr>
          <p:cNvPr id="505" name="Picture 6"/>
          <p:cNvSpPr/>
          <p:nvPr/>
        </p:nvSpPr>
        <p:spPr>
          <a:xfrm>
            <a:off x="6705720" y="3429000"/>
            <a:ext cx="1901880" cy="32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50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0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09"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1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3" name="Text Box 6"/>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3"/>
          <p:cNvSpPr/>
          <p:nvPr/>
        </p:nvSpPr>
        <p:spPr>
          <a:xfrm>
            <a:off x="2743200" y="3505320"/>
            <a:ext cx="3962520" cy="978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a:t>
            </a:r>
            <a:r>
              <a:rPr b="0" lang="en-US" sz="1800" spc="-1" strike="noStrike">
                <a:solidFill>
                  <a:srgbClr val="1f497d"/>
                </a:solidFill>
                <a:latin typeface="Arial"/>
              </a:rPr>
              <a:t>use a colon to introduce a list”</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a:t>
            </a:r>
            <a:endParaRPr b="0" lang="en-US" sz="2000" spc="-1" strike="noStrike">
              <a:solidFill>
                <a:srgbClr val="000000"/>
              </a:solidFill>
              <a:latin typeface="Arial"/>
            </a:endParaRPr>
          </a:p>
        </p:txBody>
      </p:sp>
      <p:sp>
        <p:nvSpPr>
          <p:cNvPr id="516"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8"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
          <p:cNvSpPr/>
          <p:nvPr/>
        </p:nvSpPr>
        <p:spPr>
          <a:xfrm>
            <a:off x="2286000" y="3505320"/>
            <a:ext cx="495288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Let’s try to wordsmith this, using a colon.</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438120" y="79200"/>
            <a:ext cx="8023320" cy="1231920"/>
          </a:xfrm>
          <a:prstGeom prst="rect">
            <a:avLst/>
          </a:prstGeom>
          <a:ln w="0">
            <a:noFill/>
          </a:ln>
        </p:spPr>
      </p:pic>
      <p:sp>
        <p:nvSpPr>
          <p:cNvPr id="457" name="PlaceHolder 1"/>
          <p:cNvSpPr>
            <a:spLocks noGrp="1"/>
          </p:cNvSpPr>
          <p:nvPr>
            <p:ph/>
          </p:nvPr>
        </p:nvSpPr>
        <p:spPr>
          <a:xfrm>
            <a:off x="380520" y="1143000"/>
            <a:ext cx="8458200" cy="495000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Like a recipe</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For informed readers this is the most important section</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escribes how subjects were selected and excluded</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Lucida Sans Unicode"/>
              </a:rPr>
              <a:t>DON’T DESCRIBE RESULT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on</a:t>
            </a:r>
            <a:r>
              <a:rPr b="0" lang="en-GB" sz="2100" spc="-1" strike="noStrike">
                <a:solidFill>
                  <a:srgbClr val="000000"/>
                </a:solidFill>
                <a:latin typeface="WP TypographicSymbols"/>
              </a:rPr>
              <a:t>’</a:t>
            </a:r>
            <a:r>
              <a:rPr b="0" lang="en-GB" sz="2100" spc="-1" strike="noStrike">
                <a:solidFill>
                  <a:srgbClr val="000000"/>
                </a:solidFill>
                <a:latin typeface="Lucida Sans Unicode"/>
              </a:rPr>
              <a:t>t describe standard methods in detail - use reference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tatist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th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Remember that you can put more detailed methods on the web--for example, questionnaire</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3"/>
          <p:cNvSpPr/>
          <p:nvPr/>
        </p:nvSpPr>
        <p:spPr>
          <a:xfrm flipH="1" flipV="1">
            <a:off x="8975160" y="3263040"/>
            <a:ext cx="18396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2"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9"/>
          <p:cNvSpPr/>
          <p:nvPr/>
        </p:nvSpPr>
        <p:spPr>
          <a:xfrm>
            <a:off x="838080" y="1333080"/>
            <a:ext cx="7848720" cy="4969440"/>
          </a:xfrm>
          <a:prstGeom prst="rect">
            <a:avLst/>
          </a:prstGeom>
          <a:noFill/>
          <a:ln w="0">
            <a:noFill/>
          </a:ln>
        </p:spPr>
        <p:style>
          <a:lnRef idx="0"/>
          <a:fillRef idx="0"/>
          <a:effectRef idx="0"/>
          <a:fontRef idx="minor"/>
        </p:style>
        <p:txBody>
          <a:bodyPr lIns="90000" rIns="90000" tIns="46800" bIns="46800" anchor="ctr">
            <a:spAutoFit/>
          </a:bodyPr>
          <a:p>
            <a:pPr>
              <a:lnSpc>
                <a:spcPct val="125000"/>
              </a:lnSpc>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24" name="Rectangle 10"/>
          <p:cNvSpPr/>
          <p:nvPr/>
        </p:nvSpPr>
        <p:spPr>
          <a:xfrm>
            <a:off x="533520" y="152280"/>
            <a:ext cx="8076960" cy="29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 including seven whose relatives declined, 11 who had no known telephone or address, and 24 who did not answer after five calls.</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p:txBody>
      </p:sp>
      <p:sp>
        <p:nvSpPr>
          <p:cNvPr id="525" name="AutoShape 11"/>
          <p:cNvSpPr/>
          <p:nvPr/>
        </p:nvSpPr>
        <p:spPr>
          <a:xfrm>
            <a:off x="3352680" y="990720"/>
            <a:ext cx="304920" cy="380880"/>
          </a:xfrm>
          <a:prstGeom prst="downArrow">
            <a:avLst>
              <a:gd name="adj1" fmla="val 50000"/>
              <a:gd name="adj2" fmla="val 3122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380880" y="913680"/>
            <a:ext cx="8153640" cy="146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376092"/>
                </a:solidFill>
                <a:latin typeface="Arial"/>
              </a:rPr>
              <a:t>Forty-two of them were excluded from the analysis: eleven had no known telephone or address; in seven cases relatives declined to participate; and in 24 cases no family member could be contacted within five call attempts.  Relatives of the remaining 82 cases were interviewed</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2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9" name="Text Box 9"/>
          <p:cNvSpPr/>
          <p:nvPr/>
        </p:nvSpPr>
        <p:spPr>
          <a:xfrm>
            <a:off x="1295280" y="3276720"/>
            <a:ext cx="58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914400" y="1828440"/>
            <a:ext cx="6629400" cy="2760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ffffff"/>
                </a:solidFill>
                <a:latin typeface="Arial"/>
              </a:rPr>
              <a:t>“ </a:t>
            </a:r>
            <a:r>
              <a:rPr b="0" lang="en-US" sz="2000" spc="-1" strike="noStrike">
                <a:solidFill>
                  <a:srgbClr val="376092"/>
                </a:solidFill>
                <a:latin typeface="Arial"/>
              </a:rPr>
              <a:t>. . . 124 patients died of an avoidable cause.  </a:t>
            </a:r>
            <a:r>
              <a:rPr b="0" lang="en-US" sz="2000" spc="-1" strike="noStrike">
                <a:solidFill>
                  <a:srgbClr val="f79646"/>
                </a:solidFill>
                <a:latin typeface="Arial"/>
              </a:rPr>
              <a:t>Relatives of 82 were interviewed. </a:t>
            </a:r>
            <a:r>
              <a:rPr b="0" lang="en-US" sz="2000" spc="-1" strike="noStrike">
                <a:solidFill>
                  <a:srgbClr val="376092"/>
                </a:solidFill>
                <a:latin typeface="Arial"/>
              </a:rPr>
              <a:t> The remaining 42 were excluded, either because they had no known telephone or address (n=11), relatives declined to participate (n=7), or no family member could be contacted within five call attempts (n=24).”</a:t>
            </a: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3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33"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6"/>
          <p:cNvSpPr/>
          <p:nvPr/>
        </p:nvSpPr>
        <p:spPr>
          <a:xfrm>
            <a:off x="1143000" y="380880"/>
            <a:ext cx="5867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p:txBody>
      </p:sp>
      <p:pic>
        <p:nvPicPr>
          <p:cNvPr id="536"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ufficient detail to permit evaluation and replic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you did to answer the research question / obtain the message (</a:t>
            </a:r>
            <a:r>
              <a:rPr b="0" lang="en-GB" sz="2700" spc="-1" strike="noStrike">
                <a:solidFill>
                  <a:srgbClr val="00b050"/>
                </a:solidFill>
                <a:latin typeface="Lucida Sans Unicode"/>
              </a:rPr>
              <a:t>how the story line develops…</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69328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Population / Participa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Desig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rventions / Exposur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 of Measure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alcul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alysis of data</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thical approval</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457200" y="23760"/>
            <a:ext cx="8229600" cy="1219320"/>
          </a:xfrm>
          <a:prstGeom prst="rect">
            <a:avLst/>
          </a:prstGeom>
          <a:ln w="0">
            <a:noFill/>
          </a:ln>
        </p:spPr>
      </p:pic>
      <p:sp>
        <p:nvSpPr>
          <p:cNvPr id="463" name="PlaceHolder 1"/>
          <p:cNvSpPr>
            <a:spLocks noGrp="1"/>
          </p:cNvSpPr>
          <p:nvPr>
            <p:ph/>
          </p:nvPr>
        </p:nvSpPr>
        <p:spPr>
          <a:xfrm>
            <a:off x="457200" y="990360"/>
            <a:ext cx="8229600" cy="5715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udy population</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subjects were eligible (eligibilty criteria)</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eclined to participate (and why)</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participated</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ropped out (and when / why)</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ampling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boratory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pidemiologic investig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aseline data collec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agnostic Evalu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terven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ollow-up</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finition of variable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xposur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Outcom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ase definition</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atistical analysi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341360"/>
            <a:ext cx="8229600" cy="5112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o are they?</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did they come from?</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re and how were they recruited for the study?</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was the recruitment rate, refusals, drop-outs etc. </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 size – prior estimates made?)</a:t>
            </a:r>
            <a:endParaRPr b="0" lang="en-US" sz="23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sampling method used?</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field site (if appropriate)?</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231840" y="274680"/>
            <a:ext cx="8454960" cy="1468440"/>
          </a:xfrm>
          <a:prstGeom prst="rect">
            <a:avLst/>
          </a:prstGeom>
          <a:ln w="0">
            <a:noFill/>
          </a:ln>
        </p:spPr>
      </p:pic>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atistical analys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ests used and which measurements they compar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statistical software programme including version / release numbe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transformations, probability level used to determine significance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 values and 95% CI (how these were calculated)</a:t>
            </a:r>
            <a:endParaRPr b="0" lang="en-US" sz="2300" spc="-1" strike="noStrike">
              <a:solidFill>
                <a:srgbClr val="000000"/>
              </a:solidFill>
              <a:latin typeface="Lucida Sans Unicode"/>
            </a:endParaRPr>
          </a:p>
        </p:txBody>
      </p:sp>
      <p:pic>
        <p:nvPicPr>
          <p:cNvPr id="468" name="Picture 2" descr="ServeImage;jsessionid=G27RQyTvp8D6cZ9DQg17pvVv26F0G4m7nsHGFCQjbTYCPH5v5mYW!-447275640!-949856144!8091!-1?an=00001648-200201000-00004&amp;id=FF1&amp;type=full"/>
          <p:cNvPicPr/>
          <p:nvPr/>
        </p:nvPicPr>
        <p:blipFill>
          <a:blip r:embed="rId2"/>
          <a:stretch/>
        </p:blipFill>
        <p:spPr>
          <a:xfrm>
            <a:off x="152280" y="152280"/>
            <a:ext cx="8839440" cy="62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1295280" y="353880"/>
            <a:ext cx="6553440" cy="1803600"/>
          </a:xfrm>
          <a:prstGeom prst="rect">
            <a:avLst/>
          </a:prstGeom>
          <a:ln w="0">
            <a:noFill/>
          </a:ln>
        </p:spPr>
      </p:pic>
      <p:sp>
        <p:nvSpPr>
          <p:cNvPr id="470" name="Text Box 3"/>
          <p:cNvSpPr/>
          <p:nvPr/>
        </p:nvSpPr>
        <p:spPr>
          <a:xfrm>
            <a:off x="1981080" y="2895480"/>
            <a:ext cx="541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486400"/>
                <a:tab algn="l" pos="6400800"/>
                <a:tab algn="l" pos="7315200"/>
                <a:tab algn="l" pos="8229600"/>
                <a:tab algn="l" pos="9144000"/>
                <a:tab algn="l" pos="10058400"/>
                <a:tab algn="l" pos="103352760"/>
              </a:tabLst>
            </a:pPr>
            <a:endParaRPr b="0" lang="en-US" sz="1800" spc="-1" strike="noStrike">
              <a:solidFill>
                <a:srgbClr val="000000"/>
              </a:solidFill>
              <a:latin typeface="Arial"/>
            </a:endParaRPr>
          </a:p>
        </p:txBody>
      </p:sp>
      <p:sp>
        <p:nvSpPr>
          <p:cNvPr id="472" name="Rectangle 5"/>
          <p:cNvSpPr/>
          <p:nvPr/>
        </p:nvSpPr>
        <p:spPr>
          <a:xfrm>
            <a:off x="0" y="24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
          <p:cNvSpPr/>
          <p:nvPr/>
        </p:nvSpPr>
        <p:spPr>
          <a:xfrm>
            <a:off x="0" y="39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7"/>
          <p:cNvSpPr/>
          <p:nvPr/>
        </p:nvSpPr>
        <p:spPr>
          <a:xfrm>
            <a:off x="0" y="55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8"/>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subTitle"/>
          </p:nvPr>
        </p:nvSpPr>
        <p:spPr>
          <a:xfrm>
            <a:off x="1295280" y="2514600"/>
            <a:ext cx="6934320" cy="4038480"/>
          </a:xfrm>
          <a:prstGeom prst="rect">
            <a:avLst/>
          </a:prstGeom>
          <a:noFill/>
          <a:ln w="0">
            <a:noFill/>
          </a:ln>
        </p:spPr>
        <p: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Lucida Sans Unicode"/>
              </a:rPr>
              <a:t>	</a:t>
            </a:r>
            <a:r>
              <a:rPr b="0" lang="en-US" sz="2700" spc="-1" strike="noStrike">
                <a:solidFill>
                  <a:srgbClr val="1f497d"/>
                </a:solidFill>
                <a:latin typeface="Lucida Sans Unicode"/>
              </a:rPr>
              <a:t>	</a:t>
            </a:r>
            <a:r>
              <a:rPr b="0" lang="en-US" sz="3600" spc="-1" strike="noStrike">
                <a:solidFill>
                  <a:srgbClr val="1f497d"/>
                </a:solidFill>
                <a:latin typeface="Lucida Sans Unicode"/>
              </a:rPr>
              <a:t>METHODS</a:t>
            </a:r>
            <a:endParaRPr b="0" lang="en-US" sz="3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articipant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Intervention</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rocess and Outcome Measures</a:t>
            </a:r>
            <a:endParaRPr b="0" lang="en-US" sz="24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	</a:t>
            </a:r>
            <a:r>
              <a:rPr b="0" lang="en-US" sz="1800" spc="-1" strike="noStrike">
                <a:solidFill>
                  <a:srgbClr val="1f497d"/>
                </a:solidFill>
                <a:latin typeface="Times New Roman"/>
              </a:rPr>
              <a:t>Diet and Physical Activity Data</a:t>
            </a:r>
            <a:endParaRPr b="0" lang="en-US" sz="18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Anthropometric Data</a:t>
            </a:r>
            <a:endParaRPr b="0" lang="en-US" sz="18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Metabolic Measures</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Statistical Analysi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4" descr=""/>
          <p:cNvPicPr/>
          <p:nvPr/>
        </p:nvPicPr>
        <p:blipFill>
          <a:blip r:embed="rId1"/>
          <a:srcRect l="32248" t="49719" r="-459" b="2372"/>
          <a:stretch/>
        </p:blipFill>
        <p:spPr>
          <a:xfrm>
            <a:off x="3733920" y="1523880"/>
            <a:ext cx="5257800" cy="5067360"/>
          </a:xfrm>
          <a:prstGeom prst="rect">
            <a:avLst/>
          </a:prstGeom>
          <a:ln w="0">
            <a:noFill/>
          </a:ln>
        </p:spPr>
      </p:pic>
      <p:sp>
        <p:nvSpPr>
          <p:cNvPr id="478" name="AutoShape 5"/>
          <p:cNvSpPr/>
          <p:nvPr/>
        </p:nvSpPr>
        <p:spPr>
          <a:xfrm>
            <a:off x="3124080" y="1828800"/>
            <a:ext cx="2729160" cy="1143000"/>
          </a:xfrm>
          <a:prstGeom prst="rightArrow">
            <a:avLst>
              <a:gd name="adj1" fmla="val 50000"/>
              <a:gd name="adj2" fmla="val 5969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a:t>
            </a:r>
            <a:endParaRPr b="0" lang="en-US" sz="1800" spc="-1" strike="noStrike">
              <a:solidFill>
                <a:srgbClr val="000000"/>
              </a:solidFill>
              <a:latin typeface="Arial"/>
            </a:endParaRPr>
          </a:p>
        </p:txBody>
      </p:sp>
      <p:sp>
        <p:nvSpPr>
          <p:cNvPr id="479" name="AutoShape 6"/>
          <p:cNvSpPr/>
          <p:nvPr/>
        </p:nvSpPr>
        <p:spPr>
          <a:xfrm>
            <a:off x="2286000" y="3048120"/>
            <a:ext cx="2728800" cy="485640"/>
          </a:xfrm>
          <a:prstGeom prst="rightArrow">
            <a:avLst>
              <a:gd name="adj1" fmla="val 50000"/>
              <a:gd name="adj2" fmla="val 1404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a:t>
            </a:r>
            <a:endParaRPr b="0" lang="en-US" sz="1800" spc="-1" strike="noStrike">
              <a:solidFill>
                <a:srgbClr val="000000"/>
              </a:solidFill>
              <a:latin typeface="Arial"/>
            </a:endParaRPr>
          </a:p>
        </p:txBody>
      </p:sp>
      <p:sp>
        <p:nvSpPr>
          <p:cNvPr id="480" name="AutoShape 7"/>
          <p:cNvSpPr/>
          <p:nvPr/>
        </p:nvSpPr>
        <p:spPr>
          <a:xfrm>
            <a:off x="1371600" y="3657600"/>
            <a:ext cx="2728800" cy="2133720"/>
          </a:xfrm>
          <a:prstGeom prst="rightArrow">
            <a:avLst>
              <a:gd name="adj1" fmla="val 50000"/>
              <a:gd name="adj2" fmla="val 31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a:t>
            </a:r>
            <a:endParaRPr b="0" lang="en-US" sz="1800" spc="-1" strike="noStrike">
              <a:solidFill>
                <a:srgbClr val="000000"/>
              </a:solidFill>
              <a:latin typeface="Arial"/>
            </a:endParaRPr>
          </a:p>
        </p:txBody>
      </p:sp>
      <p:sp>
        <p:nvSpPr>
          <p:cNvPr id="481" name="AutoShape 8"/>
          <p:cNvSpPr/>
          <p:nvPr/>
        </p:nvSpPr>
        <p:spPr>
          <a:xfrm>
            <a:off x="1219320" y="5867280"/>
            <a:ext cx="2728800" cy="486000"/>
          </a:xfrm>
          <a:prstGeom prst="rightArrow">
            <a:avLst>
              <a:gd name="adj1" fmla="val 50000"/>
              <a:gd name="adj2" fmla="val 1403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pic>
        <p:nvPicPr>
          <p:cNvPr id="482" name="Picture 9" descr=""/>
          <p:cNvPicPr/>
          <p:nvPr/>
        </p:nvPicPr>
        <p:blipFill>
          <a:blip r:embed="rId2"/>
          <a:stretch/>
        </p:blipFill>
        <p:spPr>
          <a:xfrm>
            <a:off x="380880" y="0"/>
            <a:ext cx="3886200" cy="106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7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7:02Z</dcterms:modified>
  <cp:revision>253</cp:revision>
  <dc:subject/>
  <dc:title>Slide 1</dc:title>
</cp:coreProperties>
</file>